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CA7-CBD8-49D9-BA9E-2BFF7B79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B5F-D468-4C6C-A596-8A3EE184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3CC-ABCD-47C5-A7C0-4B6DBDB0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EB9-20D7-4B18-A7AE-C7F12FDF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C35-E5C7-4D49-88BF-8BC4AE63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D69-502C-4FA3-AE0C-ED4C6CB0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B75-EB54-4932-8A2C-FADE211A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2F3-7CFC-43E6-A2E7-41D403F0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C79-2467-4C21-A44B-072745F5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049-384F-4688-B354-99968A00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F5D-45DD-45A2-94BC-1AB8F964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95E-CDC2-4A4E-86B9-5050C201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FA43-FF8B-4080-81E6-770C55498B5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امساً: تيسير الكريم الرحمن في تفسير كلام المن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18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وان 1"/>
          <p:cNvSpPr/>
          <p:nvPr/>
        </p:nvSpPr>
        <p:spPr>
          <a:xfrm>
            <a:off x="3203640" y="2535120"/>
            <a:ext cx="2305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برز مقاصد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عنوان 1"/>
          <p:cNvSpPr/>
          <p:nvPr/>
        </p:nvSpPr>
        <p:spPr>
          <a:xfrm>
            <a:off x="6227640" y="2494080"/>
            <a:ext cx="2665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ّن المعنى الإجمالي للآي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عنوان 1"/>
          <p:cNvSpPr/>
          <p:nvPr/>
        </p:nvSpPr>
        <p:spPr>
          <a:xfrm>
            <a:off x="179280" y="2514600"/>
            <a:ext cx="2737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نبط منه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رابط كسهم مستقيم 13"/>
          <p:cNvCxnSpPr/>
          <p:nvPr/>
        </p:nvCxnSpPr>
        <p:spPr>
          <a:xfrm>
            <a:off x="4427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495440" y="2736720"/>
            <a:ext cx="4516560" cy="412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6157800" y="2924280"/>
            <a:ext cx="2826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2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3"/>
          <a:stretch/>
        </p:blipFill>
        <p:spPr>
          <a:xfrm>
            <a:off x="279360" y="1778040"/>
            <a:ext cx="85834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34" name="عنوان 1"/>
          <p:cNvSpPr/>
          <p:nvPr/>
        </p:nvSpPr>
        <p:spPr>
          <a:xfrm>
            <a:off x="166680" y="4653000"/>
            <a:ext cx="8691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ذكر مقالات السلف بالأسانيد الثابتة ولبس فيه بدعة ولا ينقل عن المتهم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2882880" y="1052640"/>
            <a:ext cx="5981760" cy="27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599000" y="4076640"/>
            <a:ext cx="4292640" cy="533520"/>
          </a:xfrm>
          <a:prstGeom prst="rect">
            <a:avLst/>
          </a:prstGeom>
          <a:ln w="0">
            <a:noFill/>
          </a:ln>
        </p:spPr>
      </p:pic>
      <p:sp>
        <p:nvSpPr>
          <p:cNvPr id="137" name="عنوان 1"/>
          <p:cNvSpPr/>
          <p:nvPr/>
        </p:nvSpPr>
        <p:spPr>
          <a:xfrm>
            <a:off x="3635280" y="169056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ساب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وان 1"/>
          <p:cNvSpPr/>
          <p:nvPr/>
        </p:nvSpPr>
        <p:spPr>
          <a:xfrm>
            <a:off x="2654280" y="2276640"/>
            <a:ext cx="3213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وان 1"/>
          <p:cNvSpPr/>
          <p:nvPr/>
        </p:nvSpPr>
        <p:spPr>
          <a:xfrm>
            <a:off x="3492360" y="2924280"/>
            <a:ext cx="3213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م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وان 1"/>
          <p:cNvSpPr/>
          <p:nvPr/>
        </p:nvSpPr>
        <p:spPr>
          <a:xfrm>
            <a:off x="2340000" y="350028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لث عش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43" name="عنوان 1"/>
          <p:cNvSpPr/>
          <p:nvPr/>
        </p:nvSpPr>
        <p:spPr>
          <a:xfrm>
            <a:off x="166680" y="1484280"/>
            <a:ext cx="8691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ناية بالأحكام الفقهية مع دقة الاستنباط وقوة الاستدل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4857840" y="907920"/>
            <a:ext cx="4000320" cy="520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4676760" y="2708280"/>
            <a:ext cx="4216320" cy="469800"/>
          </a:xfrm>
          <a:prstGeom prst="rect">
            <a:avLst/>
          </a:prstGeom>
          <a:ln w="0">
            <a:noFill/>
          </a:ln>
        </p:spPr>
      </p:pic>
      <p:sp>
        <p:nvSpPr>
          <p:cNvPr id="146" name="عنوان 1"/>
          <p:cNvSpPr/>
          <p:nvPr/>
        </p:nvSpPr>
        <p:spPr>
          <a:xfrm>
            <a:off x="179280" y="3284640"/>
            <a:ext cx="86918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عتمد على أصح طرق التفسير وهي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ذكر الآية ثم يفسرها معتمداً على الآيات المناسبة 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يورد الأحاديث التي لها صلة بالآ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بأقوال الصحابة والتابعين والعلماء المعت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قد يورد بعض الروايات الإسرائيلية إلا انه ينبه على المنكر من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2560" cy="133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36600" y="1924200"/>
            <a:ext cx="84693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6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37"/>
          <p:cNvCxnSpPr/>
          <p:nvPr/>
        </p:nvCxnSpPr>
        <p:spPr>
          <a:xfrm flipH="1">
            <a:off x="8456040" y="3715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324000" y="352260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4067280" y="2443320"/>
            <a:ext cx="180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يس فيه بد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ذكر مقالات السلف بالأسانيد الثابت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95280" y="2514600"/>
            <a:ext cx="2089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ا ينقل عن المتهم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68360" y="2755800"/>
            <a:ext cx="4104000" cy="403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6588000" y="3062160"/>
            <a:ext cx="24847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72880" y="2133720"/>
            <a:ext cx="8691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763640" y="907920"/>
            <a:ext cx="71154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048040" y="2924280"/>
            <a:ext cx="4322520" cy="39337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تفسير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80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851280" y="2535120"/>
            <a:ext cx="201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 المرتبة الثانية بعد تفسير ابن جرير الطبر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6804000" y="2443320"/>
            <a:ext cx="20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شهر ما دون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395280" y="2514600"/>
            <a:ext cx="2376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عتمد على أصح طرق 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26481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9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ن فيه تفسير رسول ال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صحابة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ابعين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6227640" y="2494080"/>
            <a:ext cx="2665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جمع ما ألف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عنوان 1"/>
          <p:cNvSpPr/>
          <p:nvPr/>
        </p:nvSpPr>
        <p:spPr>
          <a:xfrm>
            <a:off x="179280" y="25146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ما ورد في كتب السنة و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4920" y="2871720"/>
            <a:ext cx="4305240" cy="397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4575240" y="3141720"/>
            <a:ext cx="44355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: 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05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فسر ما كانت الحاجة ماسة لبيان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عنوان 1"/>
          <p:cNvSpPr/>
          <p:nvPr/>
        </p:nvSpPr>
        <p:spPr>
          <a:xfrm>
            <a:off x="6227640" y="2494080"/>
            <a:ext cx="2665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يز بتفسير القرآن بالقرآ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العناية بالأحكام الفقهية مع دقة الاستنباط وقوة الاستدل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عنوان 1"/>
          <p:cNvSpPr/>
          <p:nvPr/>
        </p:nvSpPr>
        <p:spPr>
          <a:xfrm>
            <a:off x="179280" y="24210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صل في تفسيره إلى سورة المجادلة ثم أتمه    تلميذه الشيخ عطية سال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187280" y="2886120"/>
            <a:ext cx="4322880" cy="397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5564160" y="3284640"/>
            <a:ext cx="33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